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B32E-B4BE-45DF-B424-C0ECAD82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C6C5-6A53-41B8-82E9-CB3E5299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0E5-74F5-4240-835A-3E8B3ECE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269-DF6E-4564-9BFD-4A423264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4E6-C82B-4065-B059-4D11CD53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11E-B41F-43DF-9947-1027DB23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50E5-822C-4EA8-98CC-3AFCB6F6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E367-3F54-4192-B665-699CA063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52E1-F4C7-4E1C-81D0-0FFA0FA3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7DC9-74F0-4717-B773-26FA9B98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7FD3-8117-481A-9D39-648EAA84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372-6C9E-4F2E-8C33-B6FD6F6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9BE3-188C-47A6-9EF2-325F262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6AE-567D-41E8-9953-A711509D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21EB-DD75-4ACD-9786-39EB1540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FDE3-3F39-4682-8001-A77AF07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22F6-0F97-4B3A-B06B-BF682E1D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D327-8812-49FB-91A3-22441AD1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C194-6A43-4D8E-B75B-D2AB9CA8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A8DC-CF57-4C44-84B3-426A1087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AE69-C87E-4C29-9F7B-832C58DB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F2CF-3B95-45A9-952F-9FE46730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A579-D9B8-4E1F-95DB-4F1278EE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D982-8076-40D1-8639-F632300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DEE-CED5-438A-8B8C-CB06AED8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DF3B-D165-4AC4-B95B-B66F5E0B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2CFB-408C-451F-9C76-828E839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4A76-547E-4AE3-8044-5AF9BC27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4A52-9D4C-493F-95D4-0545395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19E0-0EE5-4D6F-A408-5353448B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280D-320E-49FE-BFF3-CB333F39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B794-86F1-4CB0-A5F2-472566FE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A8B-9806-4B89-BD59-44A02E69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D21-A165-4940-BFFE-27C997BB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BEA-A75A-4559-96E9-1C26A72A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CCA-131D-4509-9CB0-8BDC324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A43-277C-4DA9-8497-1B420326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FDC-0DBE-4396-AF78-61818ACA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18960"/>
            <a:ext cx="7772400" cy="60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9800" y="6427800"/>
            <a:ext cx="22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964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FB2030-F829-44A5-9EEF-4533A8636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7BBA-86B0-4A3E-90E9-B6A41286069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213F-3D4B-4FB9-A5E3-02307CBFDD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1BDD-439A-4D33-B8C6-0C97612B11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4800" y="1269360"/>
            <a:ext cx="6455520" cy="1346760"/>
          </a:xfrm>
          <a:prstGeom prst="rect">
            <a:avLst/>
          </a:prstGeom>
          <a:solidFill>
            <a:srgbClr val="adffad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ƯƠNG 5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01680" y="3576600"/>
            <a:ext cx="6892920" cy="2017800"/>
          </a:xfrm>
          <a:prstGeom prst="rect">
            <a:avLst/>
          </a:prstGeom>
          <a:solidFill>
            <a:srgbClr val="ffebc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8640" bIns="365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ÂN BẰNG PHA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Ệ MỘT CẤU T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A10F-FEB4-4C26-8B2B-6487EF78EE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6120" cy="214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ét cân bằng chất lỏng A với hơi của nó (P) khi có mặt các chất khí (P’) khác gây ra áp suất tổng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P  +  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i áp suất tổng thay đổi, hệ sẽ chuyển sang trạng thái mới. Phương trình sử dụng tính toán sự thay đổi áp suất đ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52640" y="4983120"/>
                <a:ext cx="2457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0"/>
          <p:cNvSpPr/>
          <p:nvPr/>
        </p:nvSpPr>
        <p:spPr>
          <a:xfrm>
            <a:off x="5754600" y="4657680"/>
            <a:ext cx="3065400" cy="186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 áp suất hơi bão hòa của A ở hai trạng th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áp suất tổng hai trạng thá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4. Ảnh hưởng áp suất tổng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2ecb2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Bài tập về phương trình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-C I và C-C II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681F-09F1-4B92-8993-E83161195C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459080" y="2759040"/>
            <a:ext cx="6242040" cy="223056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2 – 223 – 224 – 225 – 226 - 231 – 240 – 241 – 242 – 243 – 244 – 245 – 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E935-D37A-4649-AA66-3B91C22434A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330600" y="3684240"/>
            <a:ext cx="2624040" cy="75708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0240" y="1747800"/>
            <a:ext cx="5585040" cy="5110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8C37-1CC2-4329-B174-4A9256BED18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92360" y="1936440"/>
            <a:ext cx="386712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44520" y="3156120"/>
            <a:ext cx="7394760" cy="3515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 miền: AOB – rắn, BOC – lỏng và AOC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a đường cân bằng: OA: cân bằng rắn – hơi: đường thăng hoa, OB: cân bằng rắn-lỏng: đường nóng chảy và OC: cân bằng lỏng – hơi: đường bay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Điểm ba O: cân bằng ba pha rắn – lỏng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ường OC’ – đường chậm đông hay đường quá lạnh tức là dưới điều kiện mà vẫn chưa kết tin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Điểm C (37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18atm) – điểm tới hạn: nghhĩa là khi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ì sự chuyển pha là liên tục không có giới hạn phân chia p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229F-381A-4870-8975-86D88703F7B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92920" y="3251160"/>
            <a:ext cx="2922480" cy="7574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30280" y="1801800"/>
            <a:ext cx="5118120" cy="5030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830160" y="861840"/>
            <a:ext cx="80582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B771-BACD-4502-9FF7-AE5F10690BF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95000" y="1839600"/>
            <a:ext cx="50626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55840" y="3309840"/>
            <a:ext cx="6986520" cy="23997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ưu huỳnh rắn tồn tại hai dạng trực thoi và đơn 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ác đường nét liền mô tả cân bằng bền giữa các pha còn các đường nét đứt mô tả cân bằng không bề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Vùng bền: 4 vùng (rắn 1, rắn 2, lỏng và kh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iểm A, B, và C: là điểm ba bền; O là điểm ba không bền. K là điểm tới h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AB86-979E-4F63-84E3-9EE2DCBD04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56880" y="18396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Dra-kcuong1"/>
          <p:cNvPicPr/>
          <p:nvPr/>
        </p:nvPicPr>
        <p:blipFill>
          <a:blip r:embed="rId1"/>
          <a:stretch/>
        </p:blipFill>
        <p:spPr>
          <a:xfrm>
            <a:off x="1074600" y="2460600"/>
            <a:ext cx="7705800" cy="4162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0CF9-03DA-4ACB-BB6F-8FC16E3EDA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953720" y="18810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05160" y="261468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87360" y="3578400"/>
            <a:ext cx="7480440" cy="223452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ốn miền: kim cương, Grafit, lỏng và kh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cong AB là đường cân bằng kim cương – Grafit, như vậy về mặt nhiệt động Grafit bền hơn kim cương. Do đó, để chuyển Grafit thành kim cương ở 298K cần P = 2,2.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. Hoặc 1 điểm nào đó trên giản đ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03D0-3CA4-4957-A54B-80462D4CF1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24120" y="2747880"/>
            <a:ext cx="5583240" cy="171864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6 – 247 – 249 – 254 – 256 – 258 – 25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60AD-555D-427E-9FD4-0325D265F9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698920"/>
            <a:ext cx="7732800" cy="3271680"/>
          </a:xfrm>
          <a:prstGeom prst="rect">
            <a:avLst/>
          </a:prstGeom>
          <a:solidFill>
            <a:srgbClr val="0aff0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hái quát về cân bằng pha môt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Ảnh hưởng áp suất đến nhiệt độ chuyển 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nhiệt độ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áp suất tổng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ột số biểu đồ trạng thái hệ 1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ài tậ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465280" y="1204920"/>
            <a:ext cx="374652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fff18e"/>
              </a:gs>
              <a:gs pos="100000">
                <a:srgbClr val="fffad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33D3-2086-4984-82D2-AF6E37E6E76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611360" y="2990880"/>
            <a:ext cx="6586560" cy="3225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ệ 1 cấu tử gồm một chất nguyên chấ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n bằng pha hệ một cấu tử là cân bằng giữa các trạng thái tập hợp của chất đ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ự thay đổi pha bao giờ cũng kèm theo sự thay đổi tính chất của h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ạng thái của hệ được xác định bởi ba thông số P, T,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A58F-C6C5-4B18-BFD6-831488D68D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12960" y="24163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p dụng quy tắc pha Gib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07000" y="3051000"/>
            <a:ext cx="3888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k - f + 2 = 1 – f + 2 = 3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69840" y="3906720"/>
            <a:ext cx="7837560" cy="26726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1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1 = 2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ả hai thông số bên ngoài thay đổi mà hệ vẫn tồn tại 1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2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2 =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1 trong 2 thông số bên ngoài thay đổi mà hệ vẫn tồn tại trạng thái cân bằng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3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3 = 0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có thể tồn tại cân bằng 3 pha khi cả hai thông số bền ngoài không thay đổ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C0D2-4CBF-4C56-B359-E60C05AD82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966960" y="2419200"/>
            <a:ext cx="7554600" cy="1350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Đối với hệ 1 cấu tử, quá trình chuyển pha phụ thuộc vào nhiệt độ và áp suấ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ối quan hệ này được thiết lập bởi phương trình Clapeyron-Clausi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649600" y="4608360"/>
                <a:ext cx="16779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4656240" y="4278240"/>
            <a:ext cx="3065400" cy="13262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:  Nhiệt độ tuyệt đố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: biến thiên thể t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hiệt chuyển 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2360" y="616104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ệ thức này gọi là phương trình Clapeyron-Clausiu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912960" y="6203880"/>
            <a:ext cx="788760" cy="422280"/>
          </a:xfrm>
          <a:prstGeom prst="rightArrow">
            <a:avLst>
              <a:gd name="adj1" fmla="val 50000"/>
              <a:gd name="adj2" fmla="val 46697"/>
            </a:avLst>
          </a:pr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616F-3B19-4EAB-81CE-179150F57BC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068480" y="2828880"/>
            <a:ext cx="735624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ế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ính ml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ính cal (1cal = 41,3ml.atm) thì phương trình Clapeyron – Clausius được viết như s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327480" y="4433760"/>
                <a:ext cx="1879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6C50-2F77-4BCB-8CB2-BB906F6ACD6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36680" y="2728800"/>
            <a:ext cx="670860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ối vớ hệ ngưng tụ (RẮN – LỎNG) các đại lượ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ít chịu ảnh hưởng bởi áp suất do đ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82720" y="4334040"/>
                <a:ext cx="1876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4375080" y="4557600"/>
            <a:ext cx="858960" cy="563760"/>
          </a:xfrm>
          <a:prstGeom prst="rightArrow">
            <a:avLst>
              <a:gd name="adj1" fmla="val 50000"/>
              <a:gd name="adj2" fmla="val 38091"/>
            </a:avLst>
          </a:prstGeom>
          <a:solidFill>
            <a:srgbClr val="ff66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875200" y="4334040"/>
                <a:ext cx="1909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0F53-11F6-49B7-B54A-4BD6CE28ACF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7075440" y="4473720"/>
            <a:ext cx="2054160" cy="21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23960" y="2448000"/>
            <a:ext cx="830592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 hình xảy 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ỏng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ắn 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p dụng phương trình Claypeyron – Clausius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4397400" y="4578480"/>
                <a:ext cx="137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7"/>
          <p:cNvSpPr/>
          <p:nvPr/>
        </p:nvSpPr>
        <p:spPr>
          <a:xfrm>
            <a:off x="3502080" y="313992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>
            <a:off x="3489120" y="325116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517920" y="347040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504960" y="358128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55520" y="56880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4352760" y="5562720"/>
                <a:ext cx="1713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15"/>
          <p:cNvSpPr/>
          <p:nvPr/>
        </p:nvSpPr>
        <p:spPr>
          <a:xfrm>
            <a:off x="1832400" y="5708520"/>
            <a:ext cx="24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ơ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ỏng(rắ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19920" y="4219560"/>
            <a:ext cx="828720" cy="20671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7086600" y="4876920"/>
                <a:ext cx="15908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7074000" y="5842080"/>
                <a:ext cx="205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21"/>
          <p:cNvSpPr/>
          <p:nvPr/>
        </p:nvSpPr>
        <p:spPr>
          <a:xfrm>
            <a:off x="6392160" y="6095880"/>
            <a:ext cx="549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6133320" y="2637000"/>
            <a:ext cx="2942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peyron – Clausiu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7272360" y="3220920"/>
            <a:ext cx="1393920" cy="898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195-C46C-41D5-AE05-AE54606DEF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91880" y="2603520"/>
            <a:ext cx="7475400" cy="50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y đổi hẹp trong khoảng nhiệt độ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4014720" y="3564000"/>
                <a:ext cx="1490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11"/>
          <p:cNvSpPr/>
          <p:nvPr/>
        </p:nvSpPr>
        <p:spPr>
          <a:xfrm>
            <a:off x="3911760" y="4683240"/>
            <a:ext cx="1519200" cy="7318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311640" y="5543640"/>
            <a:ext cx="2855880" cy="1054080"/>
            <a:chOff x="3311640" y="5543640"/>
            <a:chExt cx="28558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3589200" y="5653080"/>
                  <a:ext cx="24141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12"/>
            <p:cNvSpPr/>
            <p:nvPr/>
          </p:nvSpPr>
          <p:spPr>
            <a:xfrm>
              <a:off x="3311640" y="5543640"/>
              <a:ext cx="2855880" cy="105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755880" y="3446640"/>
            <a:ext cx="1785960" cy="942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1:53:40Z</dcterms:created>
  <dc:creator>Quang S.O.S</dc:creator>
  <dc:description>Hoá lý 1</dc:description>
  <dc:language>en-US</dc:language>
  <cp:lastModifiedBy>Quang S.O.S</cp:lastModifiedBy>
  <dcterms:modified xsi:type="dcterms:W3CDTF">2011-05-03T06:52:54Z</dcterms:modified>
  <cp:revision>344</cp:revision>
  <dc:subject/>
  <dc:title>Chương 5. Cân bằng pha hệ 1 cấu tử </dc:title>
</cp:coreProperties>
</file>